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050320" y="152280"/>
            <a:ext cx="10936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latform &amp;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75 SG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8731080" y="138240"/>
            <a:ext cx="246240" cy="1872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7075440" y="152280"/>
            <a:ext cx="920880" cy="881280"/>
          </a:xfrm>
          <a:prstGeom prst="rect">
            <a:avLst/>
          </a:prstGeom>
          <a:solidFill>
            <a:srgbClr val="6d24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Statu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ffff"/>
                </a:solidFill>
                <a:latin typeface="Arial"/>
              </a:rPr>
              <a:t>31. Mar. 200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1093680" y="1079640"/>
            <a:ext cx="7808760" cy="5180400"/>
            <a:chOff x="1093680" y="1079640"/>
            <a:chExt cx="7808760" cy="5180400"/>
          </a:xfrm>
        </p:grpSpPr>
        <p:sp>
          <p:nvSpPr>
            <p:cNvPr id="89" name=""/>
            <p:cNvSpPr/>
            <p:nvPr/>
          </p:nvSpPr>
          <p:spPr>
            <a:xfrm>
              <a:off x="1093680" y="1079640"/>
              <a:ext cx="7808760" cy="5180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51640" y="1079640"/>
              <a:ext cx="7727400" cy="518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131840" y="1103400"/>
            <a:ext cx="7650360" cy="51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0.06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 N/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N/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N/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18.03.05 (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8.03.04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01.04.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01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2.10.04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15.12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 01.06.2006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75/85 SGL Platform planning has been finished and account has been ope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lestones are only SW related. S25 has been decl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tion of lead-free soldering – new problems appeared in Phoenix/Sirius B1+ boards with Mozart 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ck of SW resources to assign and fix bugs and to implement CRs (including operator CRs) in time for the DS SW-freez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delay of the PoC and I-mode implementation in CX70 and early X75 produ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AAC/MP3-chip with integrated MMC-interface for SGL platform under develop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e to high unused stock of key components from R65 generation (SGL, Mozart), careful material management and component allocation to the new SGL products is requi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tests on SGL lead-free showed positive results, no problems expected in mass produ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25 SW has been declared with few exceptions (SWUOTA, BT car kit support, new POC side-key mapping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CR “Background audio playing” can not be integrated in Phoenix DS re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imated number of critical bugs can only be fixed if bug fixing rate is increased – resources need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0200" y="315108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7040" y="3209760"/>
            <a:ext cx="195120" cy="208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25600" y="3475080"/>
            <a:ext cx="195120" cy="20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25600" y="374184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P65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168560" y="1214280"/>
            <a:ext cx="7325640" cy="4707720"/>
            <a:chOff x="1168560" y="1214280"/>
            <a:chExt cx="7325640" cy="4707720"/>
          </a:xfrm>
        </p:grpSpPr>
        <p:sp>
          <p:nvSpPr>
            <p:cNvPr id="98" name=""/>
            <p:cNvSpPr/>
            <p:nvPr/>
          </p:nvSpPr>
          <p:spPr>
            <a:xfrm>
              <a:off x="1168560" y="1214280"/>
              <a:ext cx="7325640" cy="4707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22920" y="1214280"/>
              <a:ext cx="7249320" cy="47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1292400" y="1322280"/>
            <a:ext cx="7059600" cy="468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1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.12.0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10.12.04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.03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23.03.0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25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01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.01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4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2.04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5.02.05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GB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28.02.05)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3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.05.0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major thr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VN47 available for produ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4 aligned with Phase II product decla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iss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Arial"/>
              </a:rPr>
              <a:t>Produ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amp up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open technical issues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82520" indent="-18252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77840"/>
                <a:tab algn="l" pos="542880"/>
                <a:tab algn="l" pos="1257480"/>
                <a:tab algn="l" pos="2971800"/>
                <a:tab algn="l" pos="3314880"/>
                <a:tab algn="l" pos="4038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7280" y="3894120"/>
            <a:ext cx="195120" cy="208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52600" y="36320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057320" y="6477120"/>
            <a:ext cx="363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000" spc="-1" strike="noStrike">
                <a:solidFill>
                  <a:srgbClr val="000000"/>
                </a:solidFill>
                <a:latin typeface="Arial"/>
              </a:rPr>
              <a:t>Claus Dalmose COM MD PD PGG AAL /  11. March 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hoenix/Siriu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649520"/>
            <a:ext cx="118440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hoenix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r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00280" y="6715080"/>
            <a:ext cx="7819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cc"/>
                </a:solidFill>
                <a:latin typeface="Arial"/>
              </a:rPr>
              <a:t>Blu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marked text is new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lack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is old,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will serve as indicator for the red traffic l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008000" y="1063800"/>
            <a:ext cx="7719840" cy="4958280"/>
            <a:chOff x="1008000" y="1063800"/>
            <a:chExt cx="7719840" cy="4958280"/>
          </a:xfrm>
        </p:grpSpPr>
        <p:sp>
          <p:nvSpPr>
            <p:cNvPr id="110" name=""/>
            <p:cNvSpPr/>
            <p:nvPr/>
          </p:nvSpPr>
          <p:spPr>
            <a:xfrm>
              <a:off x="1008000" y="1063800"/>
              <a:ext cx="7719840" cy="4958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065240" y="1063800"/>
              <a:ext cx="7639560" cy="49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014480" y="1170000"/>
            <a:ext cx="756756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ilestones Phoenix / Siriu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6.04 / 10.06.0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9.04 / 03.09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.10.04 / 05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1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.11.04 / 12.11.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6.01.05 / 08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6.04.05 / 14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lot Star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0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5.05 / 2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 SW Freeze   1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9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05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.05.05 / 25.05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.05.05 / 02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.06.05 / 28.06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mp.-Control-Bug in Intel Memory (Flash/SRAM) may lead to decreased standby tim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&gt; Closed: Second source qualified and improvement of first source ongo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-Maturity at Operator Approval / D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W bug-fixing rate not high enough to reach S3-maturity in time. Resources for approval not ensured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=&gt;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W resource situation escalated in PS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ay of Phoenix-Mechanics due to belated Samples in Shanghai may delay D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&gt; Closed: Due to overtime on weekends is the project is back on tra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alignment of Phoenix-Joystick =&gt; Countermeasures under Evaluation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, looks promis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d Free Soldering Process seems not to be stable y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=&gt; SGold and Mozart improved in drop test significant. Results need to be check in B2 run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Prototyp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72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2 Phoenix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started,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no change form B1+ to B2 Layout 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4800" y="2425680"/>
            <a:ext cx="287640" cy="64764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3840" y="2697120"/>
            <a:ext cx="144360" cy="144360"/>
          </a:xfrm>
          <a:prstGeom prst="ellipse">
            <a:avLst/>
          </a:prstGeom>
          <a:solidFill>
            <a:srgbClr val="66ff33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93840" y="2886120"/>
            <a:ext cx="144360" cy="144360"/>
          </a:xfrm>
          <a:prstGeom prst="ellipse">
            <a:avLst/>
          </a:prstGeom>
          <a:solidFill>
            <a:srgbClr val="00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394080" y="1444680"/>
            <a:ext cx="111240" cy="115920"/>
            <a:chOff x="3394080" y="1444680"/>
            <a:chExt cx="111240" cy="115920"/>
          </a:xfrm>
        </p:grpSpPr>
        <p:sp>
          <p:nvSpPr>
            <p:cNvPr id="117" name=""/>
            <p:cNvSpPr/>
            <p:nvPr/>
          </p:nvSpPr>
          <p:spPr>
            <a:xfrm>
              <a:off x="3394080" y="151956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441600" y="144468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384720" y="1649520"/>
            <a:ext cx="110520" cy="115920"/>
            <a:chOff x="3384720" y="1649520"/>
            <a:chExt cx="110520" cy="115920"/>
          </a:xfrm>
        </p:grpSpPr>
        <p:sp>
          <p:nvSpPr>
            <p:cNvPr id="120" name=""/>
            <p:cNvSpPr/>
            <p:nvPr/>
          </p:nvSpPr>
          <p:spPr>
            <a:xfrm>
              <a:off x="3384720" y="172440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>
              <a:off x="3431880" y="164952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3390840" y="1838160"/>
            <a:ext cx="111240" cy="115920"/>
            <a:chOff x="3390840" y="1838160"/>
            <a:chExt cx="111240" cy="115920"/>
          </a:xfrm>
        </p:grpSpPr>
        <p:sp>
          <p:nvSpPr>
            <p:cNvPr id="123" name=""/>
            <p:cNvSpPr/>
            <p:nvPr/>
          </p:nvSpPr>
          <p:spPr>
            <a:xfrm>
              <a:off x="3390840" y="191304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438360" y="183816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3389400" y="2043000"/>
            <a:ext cx="110520" cy="115920"/>
            <a:chOff x="3389400" y="2043000"/>
            <a:chExt cx="110520" cy="115920"/>
          </a:xfrm>
        </p:grpSpPr>
        <p:sp>
          <p:nvSpPr>
            <p:cNvPr id="126" name=""/>
            <p:cNvSpPr/>
            <p:nvPr/>
          </p:nvSpPr>
          <p:spPr>
            <a:xfrm>
              <a:off x="3389400" y="2117880"/>
              <a:ext cx="3924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3436560" y="2043000"/>
              <a:ext cx="6336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3387600" y="2247840"/>
            <a:ext cx="111240" cy="115920"/>
            <a:chOff x="3387600" y="2247840"/>
            <a:chExt cx="111240" cy="115920"/>
          </a:xfrm>
        </p:grpSpPr>
        <p:sp>
          <p:nvSpPr>
            <p:cNvPr id="129" name=""/>
            <p:cNvSpPr/>
            <p:nvPr/>
          </p:nvSpPr>
          <p:spPr>
            <a:xfrm>
              <a:off x="3387600" y="2322720"/>
              <a:ext cx="39600" cy="3384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3435120" y="2247840"/>
              <a:ext cx="63720" cy="11592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392040" y="2505240"/>
            <a:ext cx="144360" cy="144360"/>
          </a:xfrm>
          <a:prstGeom prst="ellipse">
            <a:avLst/>
          </a:prstGeom>
          <a:solidFill>
            <a:srgbClr val="ffff00">
              <a:alpha val="1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2000" rIns="72000" tIns="30600" bIns="306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2840" y="1395360"/>
            <a:ext cx="3906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313160" y="1212840"/>
            <a:ext cx="4214880" cy="247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ighligh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 still feasible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, but volumes in June endangered due to missing SW resources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 S25 declared by SW in tim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 stability one week after S25 SW Freeze already remarkable good – though many bugs (up to 30 per day)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Info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Development Cost in clarific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rot="5400000">
            <a:off x="141480" y="2640600"/>
            <a:ext cx="6523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rot="5400000">
            <a:off x="402840" y="2481120"/>
            <a:ext cx="128520" cy="1256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rot="5400000">
            <a:off x="402840" y="269388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5400000">
            <a:off x="402840" y="2906640"/>
            <a:ext cx="128520" cy="12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  <a:ea typeface="宋体"/>
              </a:rPr>
              <a:t>Adon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1168560" y="1306440"/>
            <a:ext cx="7325640" cy="4628160"/>
            <a:chOff x="1168560" y="1306440"/>
            <a:chExt cx="7325640" cy="4628160"/>
          </a:xfrm>
        </p:grpSpPr>
        <p:sp>
          <p:nvSpPr>
            <p:cNvPr id="140" name=""/>
            <p:cNvSpPr/>
            <p:nvPr/>
          </p:nvSpPr>
          <p:spPr>
            <a:xfrm>
              <a:off x="1168560" y="1306440"/>
              <a:ext cx="7325640" cy="4628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22920" y="1306440"/>
              <a:ext cx="7249320" cy="462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1197000" y="1430280"/>
            <a:ext cx="7269120" cy="446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0: 22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25.10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:   16.03.05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30.03.05)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S: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0: 29.10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01.11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25: 27.04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4:   11.07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1: 10.12.04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23.12.05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3:   30.05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3:   08.08.0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SD failure when camera is in view finder m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YD is the single supplier for major components LCD and FPC – quality risk in mass produ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SD failure of display (only during active viewfinder mode) - the complete solution still not no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Defect and bug tracking has sta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APAC variant avail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atic-load test failed, the improvement is on 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r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 OT will be 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Prototyp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First batch of B1+.1 boards available and some devices will be available in the beginning of next week. Due to “start call fail”, the run might not be finished on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he fixture for CT is uns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isk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20680" y="1220760"/>
            <a:ext cx="7326000" cy="4774320"/>
            <a:chOff x="1120680" y="1220760"/>
            <a:chExt cx="7326000" cy="4774320"/>
          </a:xfrm>
        </p:grpSpPr>
        <p:sp>
          <p:nvSpPr>
            <p:cNvPr id="149" name=""/>
            <p:cNvSpPr/>
            <p:nvPr/>
          </p:nvSpPr>
          <p:spPr>
            <a:xfrm>
              <a:off x="1120680" y="1220760"/>
              <a:ext cx="7326000" cy="477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75040" y="1220760"/>
              <a:ext cx="7249680" cy="47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181160" y="1341360"/>
            <a:ext cx="7269120" cy="47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4.03.05 -&gt; (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23.03.05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22.07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08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24.03.05 -&gt;  08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26.09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05.01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21.04.05 -&gt; 29.04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01.11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 02.02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 and S0 shifted due to change to 1.3MPix camera / TFT-display and additional necessary surface design modifications. M0 Declaration is also blocked by SAR value risk – red Q-Gate r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 Declaration is blocked by MD Design data, which is needed by LPD for S0 declaration. S0 declaration will be on 08.04.05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 Declaration may be delayed. M1 declaration will be on 29.04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admap delivery start in 11/05 not feasible due to camera and display chan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ial request to change timeline to 12/05 together with the feature set change on the 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threa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FT display schedule is very risky. B1 samples only available in time for B1+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YD is the single suppli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main PCB as Adonis to be u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s wrt  Adonis: Liftpart PCB (Epson 732), display, camera, hinge flex, antenna, housing, keyp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of MPix-Camera, driver for TFT-display and Epson 732 has been confi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12560" y="35568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SGL products</a:t>
            </a:r>
            <a:br>
              <a:rPr sz="2400"/>
            </a:br>
            <a:r>
              <a:rPr b="1" lang="en-US" sz="2400" spc="-1" strike="noStrike">
                <a:solidFill>
                  <a:srgbClr val="6d2435"/>
                </a:solidFill>
                <a:latin typeface="Arial"/>
              </a:rPr>
              <a:t>Plov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1130400" y="1319040"/>
            <a:ext cx="7326000" cy="4717440"/>
            <a:chOff x="1130400" y="1319040"/>
            <a:chExt cx="7326000" cy="4717440"/>
          </a:xfrm>
        </p:grpSpPr>
        <p:sp>
          <p:nvSpPr>
            <p:cNvPr id="158" name=""/>
            <p:cNvSpPr/>
            <p:nvPr/>
          </p:nvSpPr>
          <p:spPr>
            <a:xfrm>
              <a:off x="1130400" y="1319040"/>
              <a:ext cx="7326000" cy="4717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184760" y="1319040"/>
              <a:ext cx="7249680" cy="47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7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158840" y="1468440"/>
            <a:ext cx="726912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0" bIns="72000" anchor="t">
            <a:spAutoFit/>
          </a:bodyPr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chedule/PV/Milest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0: 01.04.05 =&gt; 08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:   26.09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S:  14.0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0: 26.04.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25: 24.11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4:   28.02.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1: 03.06.05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3:   10.01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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3:  28.03.06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Major Iss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ation from target BOM still appr. 5 Eu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H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pdated AAC-Chip (SACC-X) required with included SD-Interface and 26MHz SPI. Schedule risky but feasi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S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 one-time effort  for support of Nano-I/O, AAC chip with SD interface, display interface not via video chi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support of 130x130 display resolution possible as no SGL-based MMI available for 128x128 re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Design/Mechan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87480" indent="-874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28600"/>
                <a:tab algn="l" pos="291960"/>
                <a:tab algn="l" pos="2743200"/>
                <a:tab algn="l" pos="2971800"/>
                <a:tab algn="l" pos="502920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adjustment to reach 90% surface ongo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69800" y="3317760"/>
            <a:ext cx="376200" cy="851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4040" y="3376440"/>
            <a:ext cx="195120" cy="20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52600" y="3641760"/>
            <a:ext cx="195120" cy="208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2600" y="3908520"/>
            <a:ext cx="195120" cy="207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/>
  <dc:description/>
  <dc:language>en-US</dc:language>
  <cp:lastModifiedBy>CN1FZ000</cp:lastModifiedBy>
  <cp:lastPrinted>2004-02-29T14:41:19Z</cp:lastPrinted>
  <dcterms:modified xsi:type="dcterms:W3CDTF">2005-04-04T00:31:57Z</dcterms:modified>
  <cp:revision>719</cp:revision>
  <dc:subject/>
  <dc:title>PowerPoint Presentation</dc:title>
</cp:coreProperties>
</file>